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0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189-2CD0-4427-A7B1-6F2C93D2D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EB1-D67E-4F2A-92AD-038DE98532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44BA-5ED9-46D2-96FB-2E29E8B672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1F86-2778-4DD2-9E7E-20F0B3451B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4DD8-1A67-48E2-9802-4E488BD363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5C9-ED43-4829-BED3-66A0788CF7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9D9C-3A7F-49BA-9BE1-5C4719CC74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B400-74A3-4865-B1DF-1B63C74473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FB4D-353E-4F9E-BA16-036E868B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644-5BED-4F0C-8632-BB442FA4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407-18C2-4EC0-9CE9-DAC6C3DD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66F-92B6-4329-BACC-7E99670B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0D4-24A2-4C6F-9D2B-FA0E581E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B90-0D6C-4BFB-BC32-6A5C4FB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619-1910-4406-87BB-AF75F62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B7E1-4F14-4504-AE77-1E59E5D1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1E3B-7FAD-4F9F-A0F9-8D97D0CF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6FD-A9C3-4E2C-8526-B3384F5C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AB8F-1C95-495C-896B-8CE2222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2375-7042-41A5-A318-9C9C708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8743-C5E6-469E-82E0-9597D282FD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8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685800" y="-31680"/>
            <a:ext cx="1117908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4191120" y="57150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http://www.aduckinherpond.com/wp-content/uploads/2009/02/dsc04688-199x300.jpg"/>
          <p:cNvPicPr/>
          <p:nvPr/>
        </p:nvPicPr>
        <p:blipFill>
          <a:blip r:embed="rId1"/>
          <a:stretch/>
        </p:blipFill>
        <p:spPr>
          <a:xfrm>
            <a:off x="4038480" y="2895480"/>
            <a:ext cx="1895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400800" y="106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505320" y="533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28195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Down Arrow 10"/>
          <p:cNvSpPr/>
          <p:nvPr/>
        </p:nvSpPr>
        <p:spPr>
          <a:xfrm rot="18386400">
            <a:off x="3343320" y="372852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4038480" y="4267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Down Arrow 11"/>
          <p:cNvSpPr/>
          <p:nvPr/>
        </p:nvSpPr>
        <p:spPr>
          <a:xfrm rot="16849800">
            <a:off x="4856040" y="433476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638680" y="4724280"/>
            <a:ext cx="993960" cy="665280"/>
          </a:xfrm>
          <a:prstGeom prst="rect">
            <a:avLst/>
          </a:prstGeom>
          <a:ln w="0">
            <a:noFill/>
          </a:ln>
        </p:spPr>
      </p:pic>
      <p:sp>
        <p:nvSpPr>
          <p:cNvPr id="103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105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781680" y="2209680"/>
            <a:ext cx="838440" cy="57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620120" y="2209680"/>
            <a:ext cx="823680" cy="609840"/>
          </a:xfrm>
          <a:prstGeom prst="rect">
            <a:avLst/>
          </a:prstGeom>
          <a:ln w="0">
            <a:noFill/>
          </a:ln>
        </p:spPr>
      </p:pic>
      <p:sp>
        <p:nvSpPr>
          <p:cNvPr id="108" name="Down Arrow 14"/>
          <p:cNvSpPr/>
          <p:nvPr/>
        </p:nvSpPr>
        <p:spPr>
          <a:xfrm rot="12412200">
            <a:off x="2809800" y="2093040"/>
            <a:ext cx="333360" cy="7146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971800" y="1219320"/>
            <a:ext cx="676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orded Sound" descr=""/>
          <p:cNvPicPr/>
          <p:nvPr/>
        </p:nvPicPr>
        <p:blipFill>
          <a:blip r:embed="rId1"/>
          <a:stretch/>
        </p:blipFill>
        <p:spPr>
          <a:xfrm>
            <a:off x="-609480" y="3581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181480" y="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2895480" y="3809880"/>
            <a:ext cx="1895760" cy="2857680"/>
          </a:xfrm>
          <a:prstGeom prst="rect">
            <a:avLst/>
          </a:prstGeom>
          <a:ln w="0">
            <a:noFill/>
          </a:ln>
        </p:spPr>
      </p:pic>
      <p:sp>
        <p:nvSpPr>
          <p:cNvPr id="113" name="Teardrop 8"/>
          <p:cNvSpPr/>
          <p:nvPr/>
        </p:nvSpPr>
        <p:spPr>
          <a:xfrm rot="12729600">
            <a:off x="4592160" y="4287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0" y="457200"/>
                </a:moveTo>
                <a:lnTo>
                  <a:pt x="0" y="457200"/>
                </a:lnTo>
                <a:arcTo wR="457200" hR="457200" stAng="-10799992" swAng="5400000"/>
                <a:lnTo>
                  <a:pt x="685800" y="0"/>
                </a:lnTo>
                <a:lnTo>
                  <a:pt x="914400" y="0"/>
                </a:lnTo>
                <a:lnTo>
                  <a:pt x="914400" y="342900"/>
                </a:lnTo>
                <a:arcTo wR="0" hR="114300" stAng="0" swAng="0"/>
                <a:lnTo>
                  <a:pt x="847445" y="847445"/>
                </a:lnTo>
                <a:arcTo wR="-228600" hR="228600" stAng="2700000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lsabey\Local Settings\Temporary Internet Files\Content.IE5\Q1HN1WZ2\MCj04060700000[1].wmf"/>
          <p:cNvPicPr/>
          <p:nvPr/>
        </p:nvPicPr>
        <p:blipFill>
          <a:blip r:embed="rId3"/>
          <a:stretch/>
        </p:blipFill>
        <p:spPr>
          <a:xfrm>
            <a:off x="4800600" y="4419720"/>
            <a:ext cx="476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581280" y="1371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C:\Documents and Settings\lsabey\Local Settings\Temporary Internet Files\Content.IE5\Q1HN1WZ2\MCj04060700000[1].wmf"/>
          <p:cNvPicPr/>
          <p:nvPr/>
        </p:nvPicPr>
        <p:blipFill>
          <a:blip r:embed="rId1"/>
          <a:stretch/>
        </p:blipFill>
        <p:spPr>
          <a:xfrm>
            <a:off x="6019920" y="3429000"/>
            <a:ext cx="15620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27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ardrop 3"/>
          <p:cNvSpPr/>
          <p:nvPr/>
        </p:nvSpPr>
        <p:spPr>
          <a:xfrm rot="12502800">
            <a:off x="4939920" y="1542240"/>
            <a:ext cx="1701720" cy="1336680"/>
          </a:xfrm>
          <a:custGeom>
            <a:avLst/>
            <a:gdLst>
              <a:gd name="textAreaLeft" fmla="*/ 249120 w 1701720"/>
              <a:gd name="textAreaRight" fmla="*/ 1452600 w 1701720"/>
              <a:gd name="textAreaTop" fmla="*/ 195480 h 1336680"/>
              <a:gd name="textAreaBottom" fmla="*/ 1141200 h 1336680"/>
            </a:gdLst>
            <a:ahLst/>
            <a:rect l="textAreaLeft" t="textAreaTop" r="textAreaRight" b="textAreaBottom"/>
            <a:pathLst>
              <a:path w="1701800" h="1336675">
                <a:moveTo>
                  <a:pt x="0" y="668338"/>
                </a:moveTo>
                <a:lnTo>
                  <a:pt x="0" y="668338"/>
                </a:lnTo>
                <a:arcTo wR="850900" hR="668338" stAng="-10799996" swAng="5400001"/>
                <a:lnTo>
                  <a:pt x="1276349" y="0"/>
                </a:lnTo>
                <a:lnTo>
                  <a:pt x="1701800" y="0"/>
                </a:lnTo>
                <a:lnTo>
                  <a:pt x="1701800" y="501254"/>
                </a:lnTo>
                <a:arcTo wR="0" hR="167085" stAng="0" swAng="0"/>
                <a:lnTo>
                  <a:pt x="1577189" y="1238800"/>
                </a:lnTo>
                <a:arcTo wR="-425450" hR="334169" stAng="2288868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Documents and Settings\lsabey\Local Settings\Temporary Internet Files\Content.IE5\YSZGR4KJ\MCj04127220000[1].wmf"/>
          <p:cNvPicPr/>
          <p:nvPr/>
        </p:nvPicPr>
        <p:blipFill>
          <a:blip r:embed="rId1"/>
          <a:stretch/>
        </p:blipFill>
        <p:spPr>
          <a:xfrm>
            <a:off x="5181480" y="1600200"/>
            <a:ext cx="959040" cy="95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lsabey\Local Settings\Temporary Internet Files\Content.IE5\Q1HN1WZ2\MCj04060700000[1].wmf"/>
          <p:cNvPicPr/>
          <p:nvPr/>
        </p:nvPicPr>
        <p:blipFill>
          <a:blip r:embed="rId2"/>
          <a:stretch/>
        </p:blipFill>
        <p:spPr>
          <a:xfrm>
            <a:off x="3809880" y="2133720"/>
            <a:ext cx="2705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5791320" y="2438280"/>
            <a:ext cx="26859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www.ltgov.bc.ca/gardens/images/garden_roses.jpg"/>
          <p:cNvPicPr/>
          <p:nvPr/>
        </p:nvPicPr>
        <p:blipFill>
          <a:blip r:embed="rId2"/>
          <a:stretch/>
        </p:blipFill>
        <p:spPr>
          <a:xfrm>
            <a:off x="-750960" y="-152280"/>
            <a:ext cx="9742680" cy="701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Daniel\AppData\Local\Microsoft\Windows\Temporary Internet Files\Content.IE5\82P6XMA5\MCj04363780000[1].png"/>
          <p:cNvPicPr/>
          <p:nvPr/>
        </p:nvPicPr>
        <p:blipFill>
          <a:blip r:embed="rId3"/>
          <a:stretch/>
        </p:blipFill>
        <p:spPr>
          <a:xfrm>
            <a:off x="4114800" y="5105520"/>
            <a:ext cx="743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7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51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58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61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6095880" y="3733920"/>
            <a:ext cx="17020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73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75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80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83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187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lsabey\Local Settings\Temporary Internet Files\Content.IE5\GBG05ZIE\MCj04413920000[1].wmf"/>
          <p:cNvPicPr/>
          <p:nvPr/>
        </p:nvPicPr>
        <p:blipFill>
          <a:blip r:embed="rId1"/>
          <a:stretch/>
        </p:blipFill>
        <p:spPr>
          <a:xfrm>
            <a:off x="6095880" y="3276720"/>
            <a:ext cx="1806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4191120" y="19051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99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209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213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lsabey\Local Settings\Temporary Internet Files\Content.IE5\GBG05ZIE\MCj04413920000[1].wmf"/>
          <p:cNvPicPr/>
          <p:nvPr/>
        </p:nvPicPr>
        <p:blipFill>
          <a:blip r:embed="rId14"/>
          <a:stretch/>
        </p:blipFill>
        <p:spPr>
          <a:xfrm>
            <a:off x="7848720" y="3200400"/>
            <a:ext cx="5936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ular Callout 4"/>
          <p:cNvSpPr/>
          <p:nvPr/>
        </p:nvSpPr>
        <p:spPr>
          <a:xfrm>
            <a:off x="1219320" y="228600"/>
            <a:ext cx="7391160" cy="5029200"/>
          </a:xfrm>
          <a:prstGeom prst="wedgeRectCallout">
            <a:avLst>
              <a:gd name="adj1" fmla="val -51759"/>
              <a:gd name="adj2" fmla="val 566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bfc8560f02cfc92f.jpg image by letsdjlogo"/>
          <p:cNvPicPr/>
          <p:nvPr/>
        </p:nvPicPr>
        <p:blipFill>
          <a:blip r:embed="rId1"/>
          <a:stretch/>
        </p:blipFill>
        <p:spPr>
          <a:xfrm>
            <a:off x="-1447920" y="0"/>
            <a:ext cx="10820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295280" y="228600"/>
            <a:ext cx="11101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371600" y="-1778040"/>
            <a:ext cx="11210760" cy="7873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tbn0.google.com/images?q=tbn:7KLwcTfUqreAsM:http://www.delawareonline.com/blogs/secondhelpings/uploaded_images/turkey-778333.jpg"/>
          <p:cNvPicPr/>
          <p:nvPr/>
        </p:nvPicPr>
        <p:blipFill>
          <a:blip r:embed="rId2"/>
          <a:stretch/>
        </p:blipFill>
        <p:spPr>
          <a:xfrm>
            <a:off x="3733920" y="4267080"/>
            <a:ext cx="796680" cy="73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Daniel\AppData\Local\Microsoft\Windows\Temporary Internet Files\Content.IE5\82P6XMA5\MPPH03461I0000[1].jpg"/>
          <p:cNvPicPr/>
          <p:nvPr/>
        </p:nvPicPr>
        <p:blipFill>
          <a:blip r:embed="rId3"/>
          <a:stretch/>
        </p:blipFill>
        <p:spPr>
          <a:xfrm>
            <a:off x="1219320" y="2362320"/>
            <a:ext cx="617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Daniel\AppData\Local\Microsoft\Windows\Temporary Internet Files\Content.IE5\82P6XMA5\MPPH03935I0000[1].jpg"/>
          <p:cNvPicPr/>
          <p:nvPr/>
        </p:nvPicPr>
        <p:blipFill>
          <a:blip r:embed="rId4"/>
          <a:stretch/>
        </p:blipFill>
        <p:spPr>
          <a:xfrm>
            <a:off x="1600200" y="38098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Daniel\AppData\Local\Microsoft\Windows\Temporary Internet Files\Content.IE5\82P6XMA5\MCj04363780000[1].png"/>
          <p:cNvPicPr/>
          <p:nvPr/>
        </p:nvPicPr>
        <p:blipFill>
          <a:blip r:embed="rId5"/>
          <a:stretch/>
        </p:blipFill>
        <p:spPr>
          <a:xfrm>
            <a:off x="2971800" y="34290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Daniel\AppData\Local\Microsoft\Windows\Temporary Internet Files\Content.IE5\M83SO2KY\MPj04410500000[1].jpg"/>
          <p:cNvPicPr/>
          <p:nvPr/>
        </p:nvPicPr>
        <p:blipFill>
          <a:blip r:embed="rId6"/>
          <a:stretch/>
        </p:blipFill>
        <p:spPr>
          <a:xfrm>
            <a:off x="3657600" y="3429000"/>
            <a:ext cx="723960" cy="646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lsabey\Local Settings\Temporary Internet Files\Content.IE5\GBG05ZIE\MCj04413920000[1].wmf"/>
          <p:cNvPicPr/>
          <p:nvPr/>
        </p:nvPicPr>
        <p:blipFill>
          <a:blip r:embed="rId7"/>
          <a:stretch/>
        </p:blipFill>
        <p:spPr>
          <a:xfrm rot="19429200">
            <a:off x="-239760" y="4339800"/>
            <a:ext cx="1125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http://i1.ytimg.com/vi/LgyN_GSrA8A/hqdefault.jpg"/>
          <p:cNvPicPr/>
          <p:nvPr/>
        </p:nvPicPr>
        <p:blipFill>
          <a:blip r:embed="rId1"/>
          <a:stretch/>
        </p:blipFill>
        <p:spPr>
          <a:xfrm>
            <a:off x="228600" y="2133720"/>
            <a:ext cx="4495680" cy="313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environmentalevidence.org/Images/fox1.jpg"/>
          <p:cNvPicPr/>
          <p:nvPr/>
        </p:nvPicPr>
        <p:blipFill>
          <a:blip r:embed="rId2"/>
          <a:stretch/>
        </p:blipFill>
        <p:spPr>
          <a:xfrm>
            <a:off x="4724280" y="152280"/>
            <a:ext cx="2994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20040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orded Sound" descr=""/>
          <p:cNvPicPr/>
          <p:nvPr/>
        </p:nvPicPr>
        <p:blipFill>
          <a:blip r:embed="rId1"/>
          <a:stretch/>
        </p:blipFill>
        <p:spPr>
          <a:xfrm>
            <a:off x="-53352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t2.gstatic.com/images?q=tbn:lgducV1ATcfp8M:http://bp1.blogger.com/_FAH_C0-8mJ8/Rx3tPqEcBRI/AAAAAAAAADM/dvMUjlipR6g/s320/Sad%2BFace.JPG"/>
          <p:cNvPicPr/>
          <p:nvPr/>
        </p:nvPicPr>
        <p:blipFill>
          <a:blip r:embed="rId2"/>
          <a:stretch/>
        </p:blipFill>
        <p:spPr>
          <a:xfrm>
            <a:off x="3276720" y="18288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228600" y="-533520"/>
            <a:ext cx="8847000" cy="7391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1981080" y="533412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914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2362320" y="5257800"/>
            <a:ext cx="914400" cy="627120"/>
          </a:xfrm>
          <a:prstGeom prst="rect">
            <a:avLst/>
          </a:prstGeom>
          <a:ln w="0">
            <a:noFill/>
          </a:ln>
        </p:spPr>
      </p:pic>
      <p:sp>
        <p:nvSpPr>
          <p:cNvPr id="65" name="Lightning Bolt 13"/>
          <p:cNvSpPr/>
          <p:nvPr/>
        </p:nvSpPr>
        <p:spPr>
          <a:xfrm rot="18693000">
            <a:off x="1331640" y="5370120"/>
            <a:ext cx="914400" cy="9144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ardrop 14"/>
          <p:cNvSpPr/>
          <p:nvPr/>
        </p:nvSpPr>
        <p:spPr>
          <a:xfrm rot="12727200">
            <a:off x="3330720" y="5184000"/>
            <a:ext cx="792000" cy="717480"/>
          </a:xfrm>
          <a:custGeom>
            <a:avLst/>
            <a:gdLst>
              <a:gd name="textAreaLeft" fmla="*/ 115920 w 792000"/>
              <a:gd name="textAreaRight" fmla="*/ 676080 w 792000"/>
              <a:gd name="textAreaTop" fmla="*/ 105120 h 717480"/>
              <a:gd name="textAreaBottom" fmla="*/ 612360 h 717480"/>
            </a:gdLst>
            <a:ahLst/>
            <a:rect l="textAreaLeft" t="textAreaTop" r="textAreaRight" b="textAreaBottom"/>
            <a:pathLst>
              <a:path w="792163" h="717550">
                <a:moveTo>
                  <a:pt x="0" y="358775"/>
                </a:moveTo>
                <a:lnTo>
                  <a:pt x="0" y="358775"/>
                </a:lnTo>
                <a:arcTo wR="396082" hR="358775" stAng="10800000" swAng="5400010"/>
                <a:lnTo>
                  <a:pt x="594122" y="0"/>
                </a:lnTo>
                <a:lnTo>
                  <a:pt x="792163" y="0"/>
                </a:lnTo>
                <a:lnTo>
                  <a:pt x="792163" y="269081"/>
                </a:lnTo>
                <a:arcTo wR="0" hR="89694" stAng="0" swAng="0"/>
                <a:lnTo>
                  <a:pt x="734158" y="665009"/>
                </a:lnTo>
                <a:arcTo wR="-198041" hR="179388" stAng="2530236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Scared Chicken In A Green Shirt, Bending Over And Covering Its Head"/>
          <p:cNvPicPr/>
          <p:nvPr/>
        </p:nvPicPr>
        <p:blipFill>
          <a:blip r:embed="rId3"/>
          <a:stretch/>
        </p:blipFill>
        <p:spPr>
          <a:xfrm>
            <a:off x="3505320" y="5410080"/>
            <a:ext cx="347400" cy="31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Scared Chicken In A Green Shirt, Bending Over And Covering Its Head"/>
          <p:cNvPicPr/>
          <p:nvPr/>
        </p:nvPicPr>
        <p:blipFill>
          <a:blip r:embed="rId2"/>
          <a:stretch/>
        </p:blipFill>
        <p:spPr>
          <a:xfrm>
            <a:off x="2514600" y="5181480"/>
            <a:ext cx="1701720" cy="153216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7" descr=""/>
          <p:cNvPicPr/>
          <p:nvPr/>
        </p:nvPicPr>
        <p:blipFill>
          <a:blip r:embed="rId3"/>
          <a:stretch/>
        </p:blipFill>
        <p:spPr>
          <a:xfrm>
            <a:off x="3902040" y="2749680"/>
            <a:ext cx="13464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514600" y="1752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Down Arrow 10"/>
          <p:cNvSpPr/>
          <p:nvPr/>
        </p:nvSpPr>
        <p:spPr>
          <a:xfrm rot="18386400">
            <a:off x="3343320" y="311904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C:\Documents and Settings\lsabey\Local Settings\Temporary Internet Files\Content.IE5\GBG05ZIE\MPj04425190000[1].jpg"/>
          <p:cNvPicPr/>
          <p:nvPr/>
        </p:nvPicPr>
        <p:blipFill>
          <a:blip r:embed="rId2"/>
          <a:stretch/>
        </p:blipFill>
        <p:spPr>
          <a:xfrm>
            <a:off x="4038480" y="4038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8" name="Down Arrow 11"/>
          <p:cNvSpPr/>
          <p:nvPr/>
        </p:nvSpPr>
        <p:spPr>
          <a:xfrm rot="16849800">
            <a:off x="4856040" y="41824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C:\Documents and Settings\lsabey\Local Settings\Temporary Internet Files\Content.IE5\Q1HN1WZ2\MPj04389830000[1].jpg"/>
          <p:cNvPicPr/>
          <p:nvPr/>
        </p:nvPicPr>
        <p:blipFill>
          <a:blip r:embed="rId3"/>
          <a:stretch/>
        </p:blipFill>
        <p:spPr>
          <a:xfrm>
            <a:off x="5638680" y="4572000"/>
            <a:ext cx="1222560" cy="817560"/>
          </a:xfrm>
          <a:prstGeom prst="rect">
            <a:avLst/>
          </a:prstGeom>
          <a:ln w="0">
            <a:noFill/>
          </a:ln>
        </p:spPr>
      </p:pic>
      <p:sp>
        <p:nvSpPr>
          <p:cNvPr id="80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7" descr="C:\Documents and Settings\lsabey\Local Settings\Temporary Internet Files\Content.IE5\GBG05ZIE\MCj04244920000[1].wmf"/>
          <p:cNvPicPr/>
          <p:nvPr/>
        </p:nvPicPr>
        <p:blipFill>
          <a:blip r:embed="rId4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82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0" descr="http://inzones.com/picturezone/pictures/t2/chicken27.jpg"/>
          <p:cNvPicPr/>
          <p:nvPr/>
        </p:nvPicPr>
        <p:blipFill>
          <a:blip r:embed="rId5"/>
          <a:stretch/>
        </p:blipFill>
        <p:spPr>
          <a:xfrm>
            <a:off x="8001000" y="220968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Daniel\AppData\Local\Microsoft\Windows\Temporary Internet Files\Content.IE5\M83SO2KY\MPj04410500000[1].jpg"/>
          <p:cNvPicPr/>
          <p:nvPr/>
        </p:nvPicPr>
        <p:blipFill>
          <a:blip r:embed="rId1"/>
          <a:stretch/>
        </p:blipFill>
        <p:spPr>
          <a:xfrm>
            <a:off x="2438280" y="18288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85" name="Oval Callout 10"/>
          <p:cNvSpPr/>
          <p:nvPr/>
        </p:nvSpPr>
        <p:spPr>
          <a:xfrm>
            <a:off x="5638680" y="1981080"/>
            <a:ext cx="1905120" cy="1447920"/>
          </a:xfrm>
          <a:prstGeom prst="wedgeEllipseCallout">
            <a:avLst>
              <a:gd name="adj1" fmla="val -115333"/>
              <a:gd name="adj2" fmla="val 394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6248520" y="2362320"/>
            <a:ext cx="631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34:44Z</dcterms:created>
  <dc:creator>Madsens</dc:creator>
  <dc:description/>
  <dc:language>en-US</dc:language>
  <cp:lastModifiedBy>Mark Sabey</cp:lastModifiedBy>
  <dcterms:modified xsi:type="dcterms:W3CDTF">2009-10-12T14:29:19Z</dcterms:modified>
  <cp:revision>50</cp:revision>
  <dc:subject/>
  <dc:title>Slide 1</dc:title>
</cp:coreProperties>
</file>